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072-0FEA-4FE8-B9F7-6F74189F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886-3B7D-4453-BCE1-CA47457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D1B-E08A-4FE7-BF19-7A9479F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71C-3E44-4639-BE4E-BC6BEA33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36E-BB4E-4608-9622-3D5C82F0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C9C-F5CF-4E82-A3D3-22B72886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A15-2364-475C-ACB7-CBFA085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F37-C945-4742-B411-787BD090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28C-8029-49D9-B7DB-38641737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279-AC51-450A-BEB2-8E03700A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B94-4253-4934-8A6B-0D6EF19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F29-6A9C-447A-B7EC-4E6597C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3071-A844-4E9D-AEE7-F53B912C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57200"/>
            <a:ext cx="16002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Arial"/>
              </a:rPr>
              <a:t>إنَ الروحَ يصلي فيكم بأَنّاتٍ لا توصَ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71960" y="0"/>
            <a:ext cx="5972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2895480" cy="76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روحُ الربِّ يُرَفرِفُ على الميا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2743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إن الروحَ يشهدُ مع أرواحنا بأننا أبناءُ ا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12:06Z</dcterms:created>
  <dc:creator>HANI SAFI</dc:creator>
  <dc:description/>
  <dc:language>en-US</dc:language>
  <cp:lastModifiedBy>HANI SAFI</cp:lastModifiedBy>
  <dcterms:modified xsi:type="dcterms:W3CDTF">2003-05-30T11:27:51Z</dcterms:modified>
  <cp:revision>2</cp:revision>
  <dc:subject/>
  <dc:title>Slide 1</dc:title>
</cp:coreProperties>
</file>